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92AF-B4E9-4815-842F-0B98D52F58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A922-BC8C-4950-AA40-01E65CF092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1B61-130F-4851-8CE7-CAC5E925F5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s the results of several studies that address a set of related research hypothe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imates true “effect siz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eakne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s if the results are more varied th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ver follows the rules of hard sci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s for generalization to the population of stu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nly statistical examination of scientific studies, not an actual scientific study it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s for between-study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of bias are not control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higher statistical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vy reliance on published studies, which may create exaggerated outc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impson’s Paradox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two smaller studies may point in one direction, and the combination study in the opposite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estimate the true “effect size” as opposed to a smaller “effect size” derived in a single study under a single set of assumptions and condi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3B98-0FF7-4830-A51E-798F9292CF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:20-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F25A-F2CC-451D-8869-20A7E0F91C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will be our baseline- it could also possibly used as a pre-test.  In a real experiment, you would do this repetitively at the same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groups in real-life should be randomly assigned as much as pos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real world, you may want to do your experiment several times depending on your research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706A-D675-4B6B-8575-5D3C4CBD8D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ime constraints we are collecting ordinal data (greater than, less than, or stays the same); otherwise, we would be collecting quantitative data using a ratio scale (absolute 0- no heart beat and in equal incremen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idity is affected by monitor sensitivity, and reliability may be affected by the individuals ability to take the measurement using the moni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B873-2BB7-4EAB-8682-5B2E0A279D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al group - did squat ju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 group - remained se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pendent variable - activity/exercise (seated vs. squat jump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variable - measured/observed heart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founding variable - heart size, individual endurance, recovery rate ability, intensity of exercise/effort (squat jump/sit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A3C9-7F3A-457E-B97E-7C4977EBF2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Randomly assign participants to two groups: experimental group and contro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4E4F-ECA5-4FEC-B4CD-53059FFEF4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 loss diet p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7BB4-A64A-4170-A2FC-B0EA40B691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strate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93E5-0E2E-413D-BDCC-DB10F1A4B1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- quality/characteristic in a research investigation that may have more than 2 possible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exercise: running, lifting weights, swim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379B-9F78-46D6-819B-6E9E6BE1DE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 loss diet p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For cofounding variable, add food items to the pictures i.e. McDonald’s for the no pill group and salad for the placebo group; cofounding variables make it hard to draw conclusions about cause and effect because we cannot isolate the cause of any patterns we obse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322D-B0A9-47C1-B938-4326A0BBBE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strate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ofounding variable (i.e. add Lexile scores and IQ patterns to each group to each group); cofounding variables make it hard to draw conclusions about cause and effect because we cannot isolate the cause of any patterns we obse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C461-1EE9-4331-879D-532FBECBCC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eep some things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factor remains the same for all test participants, it can easily be excluded as a reason for dif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nclude a contro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ives no intervention and is used to compare performance against the experiment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andomly assign people to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ake into account variables that cannot be control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ssess equivalence before the treatment with prete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when random assignment of groups is not possible. Could also us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atched pair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hich is finding pairs of subjects, one form each of the two groups, to compa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xpose participants to all experimental cond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study participants are subject to all experimental and control treatments of the experiment. Treatments are assessed independen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atistically control for confounding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ling for known variables through statistical techniqu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1638-29F2-41B4-A8B1-EE0BB94085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8AC3-4E5D-49FB-866D-6BD5BC2A7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6A34-9892-427F-8F35-CDE7DCE7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E022-F05B-4BDE-96BB-4531E8E8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C9BC-749B-4DD5-B820-E40A2C26E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A177-1F8B-4B9C-A1C9-E92ABCB8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219B-97C4-4109-9620-0FAE219F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9A7E-B15A-403E-BC83-30AF88E9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B47B-4702-4308-9295-7AA42D5B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DB7E-8B2F-428B-92E8-BE11FF41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F071-A6B7-43BA-9E03-B4BDD6E3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4058-2E15-4934-A55C-5BB7628E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FFA1-644F-43E6-A0CB-E6623D01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51E5-C6F7-45F9-95C3-21559E444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Research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800600" y="2286000"/>
            <a:ext cx="41911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eith Carringt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lerie Nash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eith Nerby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athleen Olewinski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anya Wojciechowicz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2"/>
          <p:cNvSpPr/>
          <p:nvPr/>
        </p:nvSpPr>
        <p:spPr>
          <a:xfrm>
            <a:off x="144360" y="-784080"/>
            <a:ext cx="220032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144360" y="-784080"/>
            <a:ext cx="220032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14436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144360" y="-1461960"/>
            <a:ext cx="2286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144360" y="-1461960"/>
            <a:ext cx="2286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http://archive.computerhistory.org/resources/still-image/Claude_Shannon/claude_shannon.mouse_in_maze.102630790.lg.jpg"/>
          <p:cNvPicPr/>
          <p:nvPr/>
        </p:nvPicPr>
        <p:blipFill>
          <a:blip r:embed="rId1"/>
          <a:stretch/>
        </p:blipFill>
        <p:spPr>
          <a:xfrm>
            <a:off x="228600" y="1676520"/>
            <a:ext cx="4505400" cy="4762440"/>
          </a:xfrm>
          <a:prstGeom prst="rect">
            <a:avLst/>
          </a:prstGeom>
          <a:ln w="0">
            <a:noFill/>
          </a:ln>
        </p:spPr>
      </p:pic>
      <p:sp>
        <p:nvSpPr>
          <p:cNvPr id="56" name="TextBox 9"/>
          <p:cNvSpPr/>
          <p:nvPr/>
        </p:nvSpPr>
        <p:spPr>
          <a:xfrm>
            <a:off x="5731560" y="6324480"/>
            <a:ext cx="26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 740, Novembe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table 10.1 #1.jpg"/>
          <p:cNvPicPr/>
          <p:nvPr/>
        </p:nvPicPr>
        <p:blipFill>
          <a:blip r:embed="rId1"/>
          <a:stretch/>
        </p:blipFill>
        <p:spPr>
          <a:xfrm>
            <a:off x="762120" y="-2743200"/>
            <a:ext cx="7446960" cy="102409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762120" y="-228600"/>
            <a:ext cx="7467480" cy="91440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dy, Table 10.1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p. 243-24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76320" y="6477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dy, P. D., &amp; Ormrod, J. E. (2010)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al resear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Upper Saddle, NJ: Pearson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table 10.1 #2.jpg"/>
          <p:cNvPicPr/>
          <p:nvPr/>
        </p:nvPicPr>
        <p:blipFill>
          <a:blip r:embed="rId1"/>
          <a:stretch/>
        </p:blipFill>
        <p:spPr>
          <a:xfrm>
            <a:off x="1828800" y="-868320"/>
            <a:ext cx="5867280" cy="807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table 10.1 #3.jpg"/>
          <p:cNvPicPr/>
          <p:nvPr/>
        </p:nvPicPr>
        <p:blipFill>
          <a:blip r:embed="rId1"/>
          <a:stretch/>
        </p:blipFill>
        <p:spPr>
          <a:xfrm>
            <a:off x="0" y="1447920"/>
            <a:ext cx="9607680" cy="132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tle 1"/>
          <p:cNvSpPr/>
          <p:nvPr/>
        </p:nvSpPr>
        <p:spPr>
          <a:xfrm>
            <a:off x="457200" y="-7632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Experimental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re-Experimental Design: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forming a tentative hypothesis that should be followed up with more controlled studies” (p. 229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rue Experimental Desig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ministering different treatments to a single group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Quasi-Experimental Design: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siders the variables that researchers are unable to control and cannot rule out as alternative explanations for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http://t0.gstatic.com/images?q=tbn:ANd9GcT3g1-TMzG5_J8Zp3sZR8-R61LGOp7FXC5QwsnWaaVPxNEGrBs&amp;t=1&amp;usg=__EBh4-N5qZ-HIR7HF-ZFuTdPDYP0="/>
          <p:cNvPicPr/>
          <p:nvPr/>
        </p:nvPicPr>
        <p:blipFill>
          <a:blip r:embed="rId1"/>
          <a:stretch/>
        </p:blipFill>
        <p:spPr>
          <a:xfrm>
            <a:off x="5410080" y="3048120"/>
            <a:ext cx="2895840" cy="2068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http://www.accountingweb.com/files/siftmedia-accountingwebus/images/hypodermic-needle01.jpg"/>
          <p:cNvPicPr/>
          <p:nvPr/>
        </p:nvPicPr>
        <p:blipFill>
          <a:blip r:embed="rId2"/>
          <a:stretch/>
        </p:blipFill>
        <p:spPr>
          <a:xfrm>
            <a:off x="533520" y="3048120"/>
            <a:ext cx="2778120" cy="2090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http://axisoflogic.com/artman/uploads/1/Garifuna_Community_Hospital_doctor_patient.JPG"/>
          <p:cNvPicPr/>
          <p:nvPr/>
        </p:nvPicPr>
        <p:blipFill>
          <a:blip r:embed="rId3"/>
          <a:stretch/>
        </p:blipFill>
        <p:spPr>
          <a:xfrm>
            <a:off x="3276720" y="3048120"/>
            <a:ext cx="2139840" cy="20872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5"/>
          <p:cNvSpPr/>
          <p:nvPr/>
        </p:nvSpPr>
        <p:spPr>
          <a:xfrm>
            <a:off x="152280" y="6477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dy, P. D., &amp; Ormrod, J. E. (2010)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al resear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Upper Saddle, NJ: Pearson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tle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-Post-Facto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the fac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4419720" y="1523880"/>
            <a:ext cx="4724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determine if causality 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researcher “studies the possible effect of an environmental factor that has occurred prior to the study itself” (p. 22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76320" y="6477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dy, P. D., &amp; Ormrod, J. E. (2010)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al resear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Upper Saddle, NJ: Pearson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1" descr="http://t0.gstatic.com/images?q=tbn:ANd9GcSpCQFclAw5zDW1g2k0Ef0H9kE6sgRuy3HWPKJPhYov1bqVGEs&amp;t=1&amp;usg=__YQg57NISQUdV_wouVz0KNojY3LU="/>
          <p:cNvPicPr/>
          <p:nvPr/>
        </p:nvPicPr>
        <p:blipFill>
          <a:blip r:embed="rId1"/>
          <a:stretch/>
        </p:blipFill>
        <p:spPr>
          <a:xfrm>
            <a:off x="228600" y="1295280"/>
            <a:ext cx="364644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-Analys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http://www.sectorfej.net/wp-content/uploads/2010/06/paper-mess-300x299.jpg"/>
          <p:cNvPicPr/>
          <p:nvPr/>
        </p:nvPicPr>
        <p:blipFill>
          <a:blip r:embed="rId1"/>
          <a:stretch/>
        </p:blipFill>
        <p:spPr>
          <a:xfrm>
            <a:off x="2057400" y="990720"/>
            <a:ext cx="4876920" cy="48765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0" y="59436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bines the results of several stud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Research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28240" y="1143000"/>
            <a:ext cx="5257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ics and Integ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sponsible Condu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formed Cons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e.g., Harmon, 2010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ttp://www.nytimes.com/2010/04/25/weekinreview/25harmon.html?_r=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uman Subjects/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search Particip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flict of I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search Ab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RB Approval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ublication/Peer Re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llaborative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7" descr="UK-PRI Hit Squad"/>
          <p:cNvPicPr/>
          <p:nvPr/>
        </p:nvPicPr>
        <p:blipFill>
          <a:blip r:embed="rId1"/>
          <a:stretch/>
        </p:blipFill>
        <p:spPr>
          <a:xfrm>
            <a:off x="5410080" y="2590920"/>
            <a:ext cx="3330720" cy="38401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0" y="6477120"/>
            <a:ext cx="952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nal Stritch University. (2010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tutional review board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d from http://www.stritch.edu/irb.asp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C:\Users\Kathy\Pictures\DNA Research Consent.jpg"/>
          <p:cNvPicPr/>
          <p:nvPr/>
        </p:nvPicPr>
        <p:blipFill>
          <a:blip r:embed="rId2"/>
          <a:stretch/>
        </p:blipFill>
        <p:spPr>
          <a:xfrm>
            <a:off x="6324480" y="971640"/>
            <a:ext cx="2514600" cy="146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Research Collabo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5800" y="1328760"/>
          <a:ext cx="7924680" cy="5300640"/>
        </p:xfrm>
        <a:graphic>
          <a:graphicData uri="http://schemas.openxmlformats.org/drawingml/2006/table">
            <a:tbl>
              <a:tblPr/>
              <a:tblGrid>
                <a:gridCol w="3962520"/>
                <a:gridCol w="396216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nef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allen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adened experimental approa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fferences in approa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disciplinary; new knowledge form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onsibility and accountabi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ment of new research str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hical issu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rtise, methodology and resou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li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nts and other funding opportuni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closing potential conflicts of inter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rt Monitor Experimen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http://www.123heartdiseasecenter.com/images/heart-beat.gif"/>
          <p:cNvPicPr/>
          <p:nvPr/>
        </p:nvPicPr>
        <p:blipFill>
          <a:blip r:embed="rId1"/>
          <a:stretch/>
        </p:blipFill>
        <p:spPr>
          <a:xfrm>
            <a:off x="4929120" y="5105520"/>
            <a:ext cx="4214880" cy="1523880"/>
          </a:xfrm>
          <a:prstGeom prst="rect">
            <a:avLst/>
          </a:prstGeom>
          <a:ln w="0">
            <a:noFill/>
          </a:ln>
        </p:spPr>
      </p:pic>
      <p:sp>
        <p:nvSpPr>
          <p:cNvPr id="126" name="Content Placeholder 2"/>
          <p:cNvSpPr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Ques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squat jumps change instantaneous heart 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 and record your resting heart rate using the moni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are in the </a:t>
            </a:r>
            <a:r>
              <a:rPr b="0" lang="en-US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BLUE gro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lease remain seated without moving as much as possible.  If you are in the </a:t>
            </a:r>
            <a:r>
              <a:rPr b="0" lang="en-US" sz="2800" spc="-1" strike="noStrike">
                <a:solidFill>
                  <a:srgbClr val="f79646"/>
                </a:solidFill>
                <a:latin typeface="Times New Roman"/>
                <a:ea typeface="Times New Roman"/>
              </a:rPr>
              <a:t>ORANGE gro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lease do as many squat jumps as fast as possible in the time gi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 and record your he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using the moni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f7964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rt Monitor Dat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458200" cy="4800600"/>
        </p:xfrm>
        <a:graphic>
          <a:graphicData uri="http://schemas.openxmlformats.org/drawingml/2006/table">
            <a:tbl>
              <a:tblPr/>
              <a:tblGrid>
                <a:gridCol w="2451240"/>
                <a:gridCol w="1892160"/>
                <a:gridCol w="2000160"/>
                <a:gridCol w="211464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art Rate Increas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art Rate Decreas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art Rate Stayed the Sa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Blu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Group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79646"/>
                          </a:solidFill>
                          <a:latin typeface="Times New Roman"/>
                          <a:ea typeface="Times New Roman"/>
                        </a:rPr>
                        <a:t>Orang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79646"/>
                          </a:solidFill>
                          <a:latin typeface="Times New Roman"/>
                          <a:ea typeface="Times New Roman"/>
                        </a:rPr>
                        <a:t>Grou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Research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37720" y="4266720"/>
            <a:ext cx="7620120" cy="23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test cause-and-effect relationships between variab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4.bp.blogspot.com/_JLW41DVVv0A/ScungPrGT2I/AAAAAAAAAMg/X3eSNTkJoHE/S220/monkey_scratching_head-106x116.jpg"/>
          <p:cNvPicPr/>
          <p:nvPr/>
        </p:nvPicPr>
        <p:blipFill>
          <a:blip r:embed="rId1"/>
          <a:stretch/>
        </p:blipFill>
        <p:spPr>
          <a:xfrm>
            <a:off x="3352680" y="1523880"/>
            <a:ext cx="2514600" cy="27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ase identify the following from the heart rate monitor activity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Group -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eives the treatment or is experimented 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Group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eives NO treatment; NOT experimented o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 variable -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item the researcher changed between the groups (often it is the treatment)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ent vari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riable thought to be influenced by the independent variable (is measured or observed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ounding vari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ays the groups might be different in addition to the independent variabl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380880" y="1600200"/>
            <a:ext cx="8305920" cy="60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nal Stritch University. (2010).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tutional review boar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d from http://www.stritch.edu/irb.asp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mon, A. (2010, April 24).  Where’d you go with my DNA?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York Times.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d from http://www.nytimes.com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/04/25/weekinreview/25harmon.html?_r=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dy, P. D., &amp; Ormrod, J. E. (2010).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al research:  Planning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desig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).  Upper Saddle River, NJ:  Pearso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Research Grou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04920" y="1397160"/>
          <a:ext cx="8534160" cy="5003640"/>
        </p:xfrm>
        <a:graphic>
          <a:graphicData uri="http://schemas.openxmlformats.org/drawingml/2006/table">
            <a:tbl>
              <a:tblPr/>
              <a:tblGrid>
                <a:gridCol w="2819160"/>
                <a:gridCol w="2870280"/>
                <a:gridCol w="2844720"/>
              </a:tblGrid>
              <a:tr h="25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rimental  (Treatment) Gro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icipates in an intervention” (p. 226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experimented on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or receives treatme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0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Gro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group that receives no intervention”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. 226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T experimented on and receives NO treatme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2" name="TextBox 5"/>
          <p:cNvSpPr/>
          <p:nvPr/>
        </p:nvSpPr>
        <p:spPr>
          <a:xfrm>
            <a:off x="76320" y="6477120"/>
            <a:ext cx="89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dy, P. D., &amp; Ormrod, J. E. (2010)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al resear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Upper Saddle, NJ: Pearson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Group: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eives the treatment or i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perimented 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Gro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eiv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NO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eatment;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NOT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perimented 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1066680" y="152280"/>
            <a:ext cx="243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oup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t p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4952880" y="152280"/>
            <a:ext cx="289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oup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eb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3.bp.blogspot.com/_czh5_XwO1Tg/SLT4JhwyaRI/AAAAAAAAAA8/6jEFLaf1EMo/s320/woman+taking+diet+pill.jpg"/>
          <p:cNvPicPr/>
          <p:nvPr/>
        </p:nvPicPr>
        <p:blipFill>
          <a:blip r:embed="rId1"/>
          <a:stretch/>
        </p:blipFill>
        <p:spPr>
          <a:xfrm>
            <a:off x="838080" y="1447920"/>
            <a:ext cx="3200400" cy="3765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://3.bp.blogspot.com/_czh5_XwO1Tg/SLT4JhwyaRI/AAAAAAAAAA8/6jEFLaf1EMo/s320/woman+taking+diet+pill.jpg"/>
          <p:cNvPicPr/>
          <p:nvPr/>
        </p:nvPicPr>
        <p:blipFill>
          <a:blip r:embed="rId2"/>
          <a:stretch/>
        </p:blipFill>
        <p:spPr>
          <a:xfrm>
            <a:off x="4724280" y="1447920"/>
            <a:ext cx="3200400" cy="3765600"/>
          </a:xfrm>
          <a:prstGeom prst="rect">
            <a:avLst/>
          </a:prstGeom>
          <a:ln w="0">
            <a:noFill/>
          </a:ln>
        </p:spPr>
      </p:pic>
      <p:sp>
        <p:nvSpPr>
          <p:cNvPr id="68" name="Oval 8"/>
          <p:cNvSpPr/>
          <p:nvPr/>
        </p:nvSpPr>
        <p:spPr>
          <a:xfrm>
            <a:off x="6019920" y="2971800"/>
            <a:ext cx="45720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10"/>
          <p:cNvSpPr/>
          <p:nvPr/>
        </p:nvSpPr>
        <p:spPr>
          <a:xfrm flipV="1">
            <a:off x="6085800" y="3038400"/>
            <a:ext cx="323640" cy="3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4"/>
          <p:cNvSpPr/>
          <p:nvPr/>
        </p:nvSpPr>
        <p:spPr>
          <a:xfrm>
            <a:off x="0" y="0"/>
            <a:ext cx="41148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oup 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tained Silent Reading (SS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3962520" y="0"/>
            <a:ext cx="487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oup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ing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www.sptimes.com/2007/05/03/images/large/ASecti_Housep_1584090.jpg"/>
          <p:cNvPicPr/>
          <p:nvPr/>
        </p:nvPicPr>
        <p:blipFill>
          <a:blip r:embed="rId1"/>
          <a:stretch/>
        </p:blipFill>
        <p:spPr>
          <a:xfrm>
            <a:off x="685800" y="1447920"/>
            <a:ext cx="2857680" cy="3781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gothamschools.org/wp-content/uploads/2008/08/reading-teacher.jpg"/>
          <p:cNvPicPr/>
          <p:nvPr/>
        </p:nvPicPr>
        <p:blipFill>
          <a:blip r:embed="rId2"/>
          <a:stretch/>
        </p:blipFill>
        <p:spPr>
          <a:xfrm>
            <a:off x="3962520" y="1447920"/>
            <a:ext cx="4946400" cy="3809880"/>
          </a:xfrm>
          <a:prstGeom prst="rect">
            <a:avLst/>
          </a:prstGeom>
          <a:ln w="0">
            <a:noFill/>
          </a:ln>
        </p:spPr>
      </p:pic>
      <p:sp>
        <p:nvSpPr>
          <p:cNvPr id="74" name="Text Placeholder 3"/>
          <p:cNvSpPr/>
          <p:nvPr/>
        </p:nvSpPr>
        <p:spPr>
          <a:xfrm>
            <a:off x="0" y="5367240"/>
            <a:ext cx="914400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Group: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eives the treatment or i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experiment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Gro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eiv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NO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eatment;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NOT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periment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280" y="1143000"/>
          <a:ext cx="8534520" cy="5454720"/>
        </p:xfrm>
        <a:graphic>
          <a:graphicData uri="http://schemas.openxmlformats.org/drawingml/2006/table">
            <a:tbl>
              <a:tblPr/>
              <a:tblGrid>
                <a:gridCol w="1997280"/>
                <a:gridCol w="3692520"/>
                <a:gridCol w="2844720"/>
              </a:tblGrid>
              <a:tr h="21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ependent Vari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 that the researcher studies as a possible cause of something else -- in many cases, it is the one that the researcher directly manipulates” (p. 224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he variable that is different or 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changed</a:t>
                      </a: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between groups. This is often the treatment or intervention.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endent Vari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variable that is potentially influenced by the independent variable… and so to some extent depends on the independent variable” (p. 224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he variable that is 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measured</a:t>
                      </a: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or thought to be influenced by the independent variabl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ounding Vari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ys that two or more groups are or might be different in addition to the particular treatment or intervention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When you have more than one independent variabl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7" name="TextBox 5"/>
          <p:cNvSpPr/>
          <p:nvPr/>
        </p:nvSpPr>
        <p:spPr>
          <a:xfrm>
            <a:off x="76320" y="6477120"/>
            <a:ext cx="89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dy, P. D., &amp; Ormrod, J. E. (2010)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al resear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Upper Saddle, NJ: Pearson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4419360"/>
            <a:ext cx="9144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 variable: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item the researcher changed between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roups (often it is the treatment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ent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riable thought to be influenced by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dependent variable (is measured or observ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ounding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ays the groups might be different in additio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the independent vari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1447920" y="152280"/>
            <a:ext cx="243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oup 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et p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4876920" y="2286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oup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eb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://3.bp.blogspot.com/_czh5_XwO1Tg/SLT4JhwyaRI/AAAAAAAAAA8/6jEFLaf1EMo/s320/woman+taking+diet+pill.jpg"/>
          <p:cNvPicPr/>
          <p:nvPr/>
        </p:nvPicPr>
        <p:blipFill>
          <a:blip r:embed="rId1"/>
          <a:stretch/>
        </p:blipFill>
        <p:spPr>
          <a:xfrm>
            <a:off x="1523880" y="1523880"/>
            <a:ext cx="2332080" cy="2743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://3.bp.blogspot.com/_czh5_XwO1Tg/SLT4JhwyaRI/AAAAAAAAAA8/6jEFLaf1EMo/s320/woman+taking+diet+pill.jpg"/>
          <p:cNvPicPr/>
          <p:nvPr/>
        </p:nvPicPr>
        <p:blipFill>
          <a:blip r:embed="rId2"/>
          <a:stretch/>
        </p:blipFill>
        <p:spPr>
          <a:xfrm>
            <a:off x="5075280" y="1550880"/>
            <a:ext cx="2332080" cy="2743200"/>
          </a:xfrm>
          <a:prstGeom prst="rect">
            <a:avLst/>
          </a:prstGeom>
          <a:ln w="0">
            <a:noFill/>
          </a:ln>
        </p:spPr>
      </p:pic>
      <p:sp>
        <p:nvSpPr>
          <p:cNvPr id="83" name="Oval 8"/>
          <p:cNvSpPr/>
          <p:nvPr/>
        </p:nvSpPr>
        <p:spPr>
          <a:xfrm>
            <a:off x="6019920" y="2666880"/>
            <a:ext cx="304560" cy="333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9"/>
          <p:cNvSpPr/>
          <p:nvPr/>
        </p:nvSpPr>
        <p:spPr>
          <a:xfrm flipV="1">
            <a:off x="6095880" y="2716200"/>
            <a:ext cx="184320" cy="262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://www.soc.ucsb.edu/sexinfo/images/05-08-exercise.jpg"/>
          <p:cNvPicPr/>
          <p:nvPr/>
        </p:nvPicPr>
        <p:blipFill>
          <a:blip r:embed="rId3"/>
          <a:stretch/>
        </p:blipFill>
        <p:spPr>
          <a:xfrm>
            <a:off x="152280" y="3048120"/>
            <a:ext cx="1219320" cy="1238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http://3.bp.blogspot.com/_vIyBRfK623E/S_nbVCkz9tI/AAAAAAAAAdU/kTfcasyUkRg/s1600/watching_tv.jpg"/>
          <p:cNvPicPr/>
          <p:nvPr/>
        </p:nvPicPr>
        <p:blipFill>
          <a:blip r:embed="rId4"/>
          <a:stretch/>
        </p:blipFill>
        <p:spPr>
          <a:xfrm>
            <a:off x="7543800" y="3048120"/>
            <a:ext cx="1371600" cy="1279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http://www.forhealthlylife.com/wp-content/uploads/2010/05/eating-apple.jpg"/>
          <p:cNvPicPr/>
          <p:nvPr/>
        </p:nvPicPr>
        <p:blipFill>
          <a:blip r:embed="rId5"/>
          <a:stretch/>
        </p:blipFill>
        <p:spPr>
          <a:xfrm>
            <a:off x="152280" y="17524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http://www.corbisimages.com/images/572/AA48288E-9FDE-47CF-BE91-47D92E675E68/CB101822.jpg"/>
          <p:cNvPicPr/>
          <p:nvPr/>
        </p:nvPicPr>
        <p:blipFill>
          <a:blip r:embed="rId6"/>
          <a:stretch/>
        </p:blipFill>
        <p:spPr>
          <a:xfrm>
            <a:off x="7696080" y="160020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http://www.seraphicpress.com/images/Scarlet%20letter.jpg"/>
          <p:cNvPicPr/>
          <p:nvPr/>
        </p:nvPicPr>
        <p:blipFill>
          <a:blip r:embed="rId1"/>
          <a:stretch/>
        </p:blipFill>
        <p:spPr>
          <a:xfrm>
            <a:off x="0" y="18288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1371600" y="152280"/>
            <a:ext cx="243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oup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3581280" y="11916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oup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ing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://gothamschools.org/wp-content/uploads/2008/08/reading-teacher.jpg"/>
          <p:cNvPicPr/>
          <p:nvPr/>
        </p:nvPicPr>
        <p:blipFill>
          <a:blip r:embed="rId2"/>
          <a:stretch/>
        </p:blipFill>
        <p:spPr>
          <a:xfrm>
            <a:off x="3886200" y="1371600"/>
            <a:ext cx="3683160" cy="2666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http://www.sptimes.com/2007/05/03/images/large/ASecti_Housep_1584090.jpg"/>
          <p:cNvPicPr/>
          <p:nvPr/>
        </p:nvPicPr>
        <p:blipFill>
          <a:blip r:embed="rId3"/>
          <a:stretch/>
        </p:blipFill>
        <p:spPr>
          <a:xfrm>
            <a:off x="1600200" y="1447920"/>
            <a:ext cx="2016000" cy="2666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http://www.scholastic.com/iphoneapps/images/clifford_lg.jpg"/>
          <p:cNvPicPr/>
          <p:nvPr/>
        </p:nvPicPr>
        <p:blipFill>
          <a:blip r:embed="rId4"/>
          <a:stretch/>
        </p:blipFill>
        <p:spPr>
          <a:xfrm>
            <a:off x="7696080" y="2209680"/>
            <a:ext cx="1298520" cy="9907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434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 variable: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item the researcher changed between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roups (often it is the treatment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ent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riable thought to be influenced by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dependent variable (is measured or observ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ounding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ays the groups might be different in additio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the independent vari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ling Confounding Variab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52280" y="1066680"/>
          <a:ext cx="8839440" cy="5639040"/>
        </p:xfrm>
        <a:graphic>
          <a:graphicData uri="http://schemas.openxmlformats.org/drawingml/2006/table">
            <a:tbl>
              <a:tblPr/>
              <a:tblGrid>
                <a:gridCol w="4419720"/>
                <a:gridCol w="4419720"/>
              </a:tblGrid>
              <a:tr h="1121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rpose: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o maximize internal validity  by ruling out confounding varia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ep some things const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test to assess equival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 a control gro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ose participants to all experimental condi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1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domly assign people to grou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istically control for confounding varia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23:01:02Z</dcterms:created>
  <dc:creator>Valued Acer Customer</dc:creator>
  <dc:description/>
  <dc:language>en-US</dc:language>
  <cp:lastModifiedBy>Kathy</cp:lastModifiedBy>
  <dcterms:modified xsi:type="dcterms:W3CDTF">2010-11-13T05:43:39Z</dcterms:modified>
  <cp:revision>100</cp:revision>
  <dc:subject/>
  <dc:title>Slide 1</dc:title>
</cp:coreProperties>
</file>